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6A6-10C6-4FCE-A429-FAE9EF60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3F-38DB-41E6-AED9-5E73BC5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C34-C8B5-4291-AF71-470FB977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3A6-65B4-4A36-9289-CBD4A97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133-9D08-4CEE-8E7A-7CF34801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B31A-0F96-459A-A90C-573448E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FCA-C076-473D-915E-157DDEC9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39D-ABAF-4939-AE1F-B855606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E4D-0CDC-4A14-82A8-4ADDFFE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6202-22E5-484D-8161-83CB7F7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9327-121F-4073-BFD7-33D2CEC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FE6-8A5C-4BD7-A4EB-9BD73A0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2D67-FB99-4497-85C8-27333861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F44-DB42-489A-BCDD-D9A8D45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BC42-30C5-464F-B572-2FD9B36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3D2-E001-486D-887A-31CC3B25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6CC-1350-4223-9431-7238CFF9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765-F6D9-426E-81B5-5C309CA5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D38-C0A0-47C5-9061-A61F245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947-4B27-4FA1-8B7A-8F37087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3A7-B511-4DA5-8541-FA33872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E13-51DC-4ADA-9F98-79CA509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48E-E651-47C6-A3C3-4299230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CA1-8B31-4039-BE71-33A1402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882-6179-467B-B12B-BE5A421764C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559-3174-48EA-89F4-47ABF18862B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cientific Metho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8: Appl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we learned from this experiment or investigation that is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hese results apply to real-life situations, or further stud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methodology in all science, particular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steps as well as their titles may vary from one book or class to the next; however, the general idea remains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purposes of this class, we will use the following 8 step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: Problem or purpo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you are performing an experiment or investigating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724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: Questio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things you want to (or intend to) find out in your investig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ded to guide your research and backgrou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ep 3: Research and Background Inform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the individual research on the concept or experiment intended to provide a basis of information to st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clude specific laws or facts pertaining to the concept or experiment, or results from similar investigations and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that there is an understanding of the fundamental concepts prior to further pur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Hypo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dicted outcome of what will occur; based on the known information from previou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“educated gu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2828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5: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mental procedure or test that is used in your invest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762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ep 6: Observations &amp; Data Collec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noticing or perceiving what is occurring in the invest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well, it includes recording these observations for later reference and pro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uably the most important of the 8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7: Analysis &amp; 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 of the experiment and how it wor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possible through the observations and data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hypothesis ver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17953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3:03:51Z</dcterms:created>
  <dc:creator>Mike Olfert</dc:creator>
  <dc:description/>
  <dc:language>en-US</dc:language>
  <cp:lastModifiedBy>Mike Olfert</cp:lastModifiedBy>
  <dcterms:modified xsi:type="dcterms:W3CDTF">2010-09-07T03:26:59Z</dcterms:modified>
  <cp:revision>2</cp:revision>
  <dc:subject/>
  <dc:title>The Scientific Method</dc:title>
</cp:coreProperties>
</file>